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D393-5B7B-4552-9204-25957DBB9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5CD4-7458-4186-B2F4-207DD8692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C7566A-3D3C-4A0E-A7E2-9091DF9AA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43F3F7-7186-40CB-BE9C-F03A40C2D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54CC98-6BC3-466D-976B-FB2DA5AA3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91F301-9789-4AE8-847C-958B9E0DF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50B3EC-751A-43F3-B157-5B9CF17CA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20EA1B-B2BB-4D31-B61D-8435D7CBE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729FA7-5390-461E-BFBD-F894EF5E3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78521B-BE23-42E4-881F-BCF2776CE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C83884-CAB4-4D14-A713-DC656415F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49138A-BA12-4F02-B513-49C19EFDC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3D41-16F2-4D0E-9832-4ABCC8026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1AFE99-A679-4515-9FF4-C5505632B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F2FAD1-AD8D-47D1-832D-2E829B774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9E449E-2097-487D-AB89-55058E4B1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8042E6-01D0-42F1-9D1C-7555F1087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EF572A-A038-4F6B-ACF0-516477FFA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5E9AA0-C61F-4B95-A8C0-52CD9E7D2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7B2430-44A4-4990-BCDE-2C3E40352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9134D5-DEFD-4A7D-BF5C-B8BCEA9E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A8301B-EF3A-4CDD-B29D-A0135B7BB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95D61E-2E3C-4511-9BA3-7BF03D0F0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D840-7412-42D6-AEBA-26D34091B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CA227E-721A-4A5E-9F08-CCB74DDFE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C82BBA-ADA6-49EE-9560-697B11A24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1AF961-03C6-4F8F-921B-471D31575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D2843C-C678-4057-BA39-6C293A4BD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642009-FC4A-4CBD-BD75-0561251AD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6151FF-91C8-4325-B289-19778B989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139995-06F9-470B-A8CA-7803EECAE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FB54AD-9C09-474B-A85E-4E882AA5D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B1CCE4-7A6A-412A-A1E1-CF91CC150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B6B441-A26C-4923-B789-8A1999D1E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FE346-D55B-435D-957E-876287394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1053A3-F031-41B2-8B28-4A42378EC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42D61D-11F4-41D5-96FD-7C39D1F7C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72994C-0F5D-40BD-A033-A056F9B83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DD0B26-52DD-4D74-902C-4672DFD9E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11E793-1C58-485B-A989-43FD23D97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44A332-977A-4C33-A0FA-7B5E5A52F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982C46-88E5-4A4A-8667-2ADF78CEC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9845BE-A57D-4134-9333-D6C1CA43A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1F40AA-EB54-444E-8027-2DD05CB69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FFAD7B-FE13-44A7-8F03-9C5B27C92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00E4D-C3C5-496F-A4C1-770DFE375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CD5E39-6B4C-4752-8216-F849C9E01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66CF3B-CE86-45D7-A831-05D417C19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5AC73F-B4CB-45C1-A6D9-57C4BF0E0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16F948-A828-4147-86A1-E6E470743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2C5EDA-C15E-41E2-AFD0-6C24E26B7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CB9E9C-C744-44F9-B317-72D4E48B0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E6D6DE-E90E-46E8-9D10-9ED9249DC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331B5D-1787-4FD0-A021-A5B86F709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B65B54-AC0A-492A-8D88-9FAED38CA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137A03-6ADE-4FC9-AFD2-2FC10575D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C3974-83B8-40C5-B493-556538893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EEEA21-8BB9-48E6-8993-2069430EC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CADFB4-411F-4C71-A0B1-1FFD66C3D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D24939-E949-49BE-A1A9-107BF5FE5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62BDA9-2A5C-4999-9784-70FF607E3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E70B75-4985-49C6-8CD2-52372985B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0265E5-BD17-43AE-A2EC-E05A40C77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7CA2C2-5328-4D8D-A3B5-454A51ACF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72B8EB-5127-484D-8C15-BCCD14243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A85443-EA44-4B4D-805D-AA46F7044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04D5E1-F44A-4C39-9D2C-EA771D8F3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B281E-4F85-4D72-B646-9F77AB5F7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58F80F-54F3-427F-A768-8DFCCF3D8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C57D4B-7D53-43C7-BC74-0F1FCBE7D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DC416D-33E7-491A-BDDE-05F868276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1776BE-7112-4481-B631-B08076C89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2CBF78-0B6B-45E0-BEE2-3F326CAB0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BD8895-25DA-4A1C-B6BF-1CBDB955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96D6FF-2275-406B-B03B-6C20C56CD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FBDCD2-2BC1-4217-ABCC-69EE87653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E23414-D9F0-4E85-A879-AEB1C14C3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582B79-E540-46FF-A1A5-F0424F1DF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F5BC8-C9BB-4634-9EEB-D23C28758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EE5CC5-6A39-42BE-BD15-69DABC00B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7E75D5-CAE1-42A2-B7CB-22153CFE9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120E32-13AF-46BC-996B-134EFEB27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415349-0AE1-4D5E-B664-36D3BA302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230D83-B1C8-4A8E-B3A8-BB757B371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B6BECD-4C9D-445F-BE7F-F4CFFDCC7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4528EA-2094-441B-A2ED-2159652E4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6699FE-3C1E-40DF-AED6-7C499E71C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77F181-6B49-4DAB-A56F-357FFAF5A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54655E-FA2B-4ED3-A9EC-AC82553B5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1F6A6-97E9-464A-A864-9BE1DBCF0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507528-9291-44B4-8690-D03DDC023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308DA9-4D97-4F99-BAC3-3B26900FD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D8647D-AFC3-4802-AF50-58CABA4E2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FFDCE5-E1D6-45D3-871F-20A54065E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132A70-A973-4E38-8F60-999BCC341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D4F0BD-EFB0-48D9-AC2A-3146DAB80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255EBE-5C30-44AC-BED1-7ADC8B0D4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591C18-DBDE-4A57-A3DC-1C845DD02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5C078F-3CE7-45C4-8B65-A16FDAD99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745BA4-5E82-4E39-AD45-4BECF8FF8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33ABC-0662-4BDF-8F97-CE49C0A45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10015F-65F3-42BC-818F-58D7B412B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DB8BEE-CCD7-4AD3-B936-770F27A5C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DB1D3C-170A-48FB-B8C3-607A4215B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24AD40-65B4-4185-AEEB-7848CAD38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4E94F8-2FB7-41E7-8A35-861FF699C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ACAF0E-8ADC-4152-BF80-D546A3073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F56A3F-45BB-4507-900E-CF11466A0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AA9DB3-3E77-430A-B0DE-282EEA0DC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A2AA1A-89DA-42DE-B5BA-16569ECA6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75130C-8B68-4F98-8BD0-81E0DF1DE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D946-3BF0-44D1-85D1-DE455A2F0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7CF75-12E8-4E5E-AE64-5595B9139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45A23A-62F3-469F-8C67-5F17D590E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B67653-4B54-444B-B2C1-9C285E75A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81A763-B588-4AB1-AB06-A0E158BB7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653DEB-A213-423C-BDDD-9893EC3ED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83FCDC-C46C-4EE0-9F08-854DF87C5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681547-B23C-4AD1-B6C2-448C65ABE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79C05B-7EDC-41CF-8980-B812D9E5B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7CD710-C9B2-49EF-A82A-07904A22E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662EDC-8A51-4C8D-86D1-6AA4DB54D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84606E-3A92-4929-8C35-0F1E6ACC6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9EC54-A6B4-4BFB-8B6F-DB500E702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33297B-F00D-4822-A409-F0363941B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1459FA-1192-427B-A936-4EDE7E17C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C03EF3-59C9-4E01-8627-353A0426E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8C7E90-9297-4869-B202-8754FC689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C251EC-3DA0-4615-872E-1E061FFC8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0EEFA0-8A31-4BE7-B403-F98FDB9FF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752909-6A21-4B8B-B4DD-F66A33BE3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3E97E0-3CE4-49AA-B040-3D472E6CA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BB9E50-EFB5-495E-B158-C4793AD70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BA71B1-8C6C-47AC-A79C-C4D0C2E70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9DA0B-4DCB-40B1-8AAC-62AD3F739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1035C0-826E-4999-BD39-683DD9AD3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8E4E9D-746F-4CC6-AED7-A522ECE64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23D26E-84BA-4171-B082-17E52F81E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5AD415-6ADE-4C1E-9628-BF43702FE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0E3DF1-E98D-4D51-9A5A-929016772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945AEE-D779-4F3A-A7ED-79E6C83CE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602FB6-9C04-4604-B042-19D8B2D60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449E83-9C64-4522-9515-AB0581887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46E90D-6DA5-4187-87D3-4DD9CF911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261DFAA-A669-4363-9423-44A851F29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2BBA3-3B47-49B8-BE7A-759DB9575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BB5CF5-F5FC-4C5F-BA1B-46F33ED4A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C5965A-4227-4458-86A1-7A62F141A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F5F330-0B17-46E4-B2E0-79DD44EA5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2B4377-4E28-4D1D-B3DA-513F93D79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5E5FB86-1421-4DFF-8DAE-D870E438C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A2529B-657E-4DFA-B971-D9061A45E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74502C-D52F-4111-BB0C-89FD9D747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124AB4-7C48-422D-A2B5-219C5528B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ED5B91-EA93-4664-98A2-F3F61FBDA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D5D3A2-D257-44CA-8C85-3288F7FD0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15C86-8BAE-4057-BACB-91BBB2682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B483FCA-5B9B-4116-8476-CA543632C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C06D643-156D-43C3-A301-7CDF3231C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DE96C2-34FD-475F-9DD3-45DF0B1E3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7005652-055A-411F-B207-2C4FF3025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E2BDFB6-B6F2-4967-86E4-40C6EBB4D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BAD98CA-71EF-4F58-A17F-93C1B5A6C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D33EF9-066C-47E0-B215-80B99BB62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FA994F-4372-4564-AEAD-F6ED5452B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525198-1859-4593-9225-E2B159D07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0CE2949-0B15-4041-8889-B546EA488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986FC-D4BE-41A1-8E43-30CE5C78C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E5FA77C-86D4-457D-AB20-D0DA89DDD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18F3FE3-E25A-4C77-902B-FA9EECC4D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B77741C-A5C6-4A17-9414-5C3A9CCFE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099D1-2610-466E-8C6B-DECD0CF12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C5054-CD20-455D-BB8F-CF042A989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21BB0-CE5E-49B8-8D1A-FE4EFA483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CDA9F-40A1-41A8-AC2E-799BD2564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EB74-628C-4DE3-84CC-A0E022AE0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1F4B9-1DA1-41DB-97D2-B3D80C7B0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9E0EA-62DB-43D0-818B-D5ACDAF5C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56449-F6A2-4326-84C9-E5ACEC77E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2A513-0AF4-45EA-8D4F-655EDC76F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5C7C9-E288-47E2-B81F-FABF8C60F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13773-6923-4435-B9ED-2D1E95371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FFA70-3A77-45B6-8117-848BD31AF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1235A-8106-4115-B47B-CB2F7371E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D1AB93-D18D-458C-B89B-4237E57AF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904FA-FF88-4B25-9152-C22173498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3B22-1419-4A91-9262-8C39694D7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92565-5F00-49A9-895F-191C9A797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5A44E-DD1D-418D-A01E-CC90C29DB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20EDC-DC61-42F0-BB3B-4CF81C211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BB207-FC66-4BCA-9767-6645E76CA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DB4C3-096F-4038-846E-374DA6B7E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39F2F-9580-4FC3-B5DB-7CAB0496C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5F590-0246-4C02-B077-E31B2DBF1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D3E43-6CC4-4E55-B6AA-34362AAEF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CBD21-994E-4FE1-8696-D2AF904C5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485EFD-E1A2-497B-9BD4-F8E0355BE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E2C4-5846-4F9B-A5AC-E3CB5F50D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E1914D-EF70-4219-B695-42FA3B34B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EA8ECD-6AB9-4867-B087-7CD458D6C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8CA3F8-4409-4D35-977B-58977CC6B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038016-AC9D-42A2-B714-CAFA84194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00DD43-A1B0-4AC3-AAED-9AC557160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CD318D-F9DD-40D3-BF15-7384B0208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CCA9EA-53FA-4A67-AAD3-7361DED34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92D15E-0D28-4056-B21F-30B300DBB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A657C3-A8B0-4FF2-A4E1-5DBCD8A2F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1A2A3C-C4A2-4FE7-89C7-467EBAB5A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A19F-1AA8-4BE8-B80E-67610EF92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666238-4DDD-4044-BF54-C5FEEF98E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1886CE-0984-4F1D-9E2C-6692358A5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6CD9E8-637A-4BE5-B2F9-D3D48E03F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877F2E-F6F8-42BD-86B9-23C5F90B2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7510E0-824B-4E4C-8E90-560DED372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ACC49B-714E-430A-9DB2-F2C84AC71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1AE099-5658-4524-BD03-FD0596E1F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5A2923-DC23-406D-B126-8778B586F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C6948D-177D-43EC-A128-3EC5CAE6D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C05F16-C0B0-4518-A5AC-65E363234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75D3-F041-4189-895B-DC161EB41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D2C075-1E72-4C47-9CD9-FE9CB4A25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EE29E3-A183-4E9F-9DAE-8CFE3BF5A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92D848-CC6C-48FE-A8C6-EFC6A0BD6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E74ECF-513A-41DB-8441-BFB24505D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DBE5A1-3418-49B7-A280-E79B49AB2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322772-6B51-4D4A-86B6-D76D898E8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B7CD16-104F-4BCB-ABFE-A8B5C4EB7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05E5D6-BB48-471E-B46C-5E8E75CCA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2F82EE-F2E2-4D8B-BDA7-8E2D4EC6D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8B002D-3B82-4B72-BE35-352FCC9A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1112-E65B-40AD-BA92-55FE24E23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3B4FB5-F949-4E36-AD6E-0F608992B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44845C-6D01-4B46-8707-46718E7CD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1A644E-8642-4DCA-AC09-B9820785A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82AC26-6EA8-42BA-89E6-BBF25B165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F321BF-7113-44B3-AA9E-5913E48C0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0BCC10-C063-4886-BE97-70AFA2830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47AA85-54A8-491F-AFF6-A0956BF0E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22F3F6-DE05-4E27-A1F5-53B678D1B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7F8994-F381-4699-8C9C-B55DD2782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1753D9-F7E5-4080-B6F5-40263841C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C0FC-486E-405E-A319-096A1E18D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3345C0-0B7C-4EAA-A3A3-2684FD851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7E72DE-83AC-4882-A74A-53F19B215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8F43FE-D445-458D-9958-D25277B79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804CF9-A41D-441D-B170-1618F5719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B9981E-13D6-4F60-8628-9AF13B4F6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35692F-9BE7-4F57-AE04-FF5338775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C1522C-5E6B-4637-85F1-0792FD357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CC7A9F-96AB-4186-8917-E0B2B42C1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1CDB56-C2BC-4672-A414-D729D17B2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27530E-AFC0-4D08-8FA1-D3EA76934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8CDA1-E449-4D75-A6CD-F4B480254D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63731-9A37-4ED4-ACDE-93F60891C52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156C7-CB82-480E-B615-1C82E76CE80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E3E99-7CCD-437B-AFFB-3808C1BCEF3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5B598-1643-4B90-9CE9-9CEC1E30BB3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D3561-75B8-4127-A6EA-E9B730E0A77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BF2C9-3F07-4FD0-9A03-25156106E52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A0407-9005-491D-9F8B-C07458F45D3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A74ED-28E7-4772-B338-F8C541CCC1E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CB360-B6AD-4D3E-9286-B254F98D736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F6D7A-3E4D-48D9-A930-FEFAF363B51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EBBAD-156E-4E3F-85A6-6E52B843D84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4D00A-C185-47FA-9AA9-82A3F0EC413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25A5C-CCD4-4D20-B9AF-40D25881D8F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99C55-F9B7-46C4-9722-DEF64EEABD5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B8A5C-42E2-4AB1-B95B-F1EAB219313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190B2-791C-49A2-9BBE-47ECFCDAB34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531C2-E016-40F9-B1D7-CBC80E66C01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BBF42-B5CB-4A4F-B86F-3BFE8F33FFA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51DC7-7F77-4833-A188-356E7DEE83B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27B85-CBB1-4E10-9514-91D60C32873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40F08-88B1-4D65-88C8-753186DB872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D6600-3281-4FB9-B09D-1AAE12FBDCA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880B6-F482-45AD-9E45-09E448F1897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EBD72-1208-4383-A587-2D12148D684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E1679-918A-400C-8C8A-AF063F92386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5229E-2EA2-486A-9866-054F492A8BB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02FB9-C611-42F2-B4C8-A2977719ED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4BBFE-0A7F-48E7-B693-283366B3498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3A287-6D4D-4326-A0FC-0E5037088FE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814AB-1DA3-4F9D-9B65-4F774CB2E25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A24AB-7871-4936-B8B9-D4C58F3BC3A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9C996-73EC-4E8A-A906-42A5D2D3C77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6AE88-EAEB-42F5-A9D4-0F01A6E20EE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BD73E-97A3-4994-AC63-3D02A37327B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DA1EA-459B-49FC-9B10-0612E7C9278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25C08-B5CF-435F-9EBB-C568215F703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FF1D1-60AE-4A08-AAE2-5721E60F6A7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3F983-D923-47CE-BA1F-946B9583774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6B7FF-33EC-4C69-805B-098EA426B94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image" Target="../media/image13.png"/><Relationship Id="rId19" Type="http://schemas.openxmlformats.org/officeDocument/2006/relationships/image" Target="../media/image13.png"/><Relationship Id="rId20" Type="http://schemas.openxmlformats.org/officeDocument/2006/relationships/image" Target="../media/image13.png"/><Relationship Id="rId2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Picture 1" descr=""/>
          <p:cNvPicPr/>
          <p:nvPr/>
        </p:nvPicPr>
        <p:blipFill>
          <a:blip r:embed="rId1"/>
          <a:stretch/>
        </p:blipFill>
        <p:spPr>
          <a:xfrm>
            <a:off x="1714680" y="3286080"/>
            <a:ext cx="59515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95400" y="1114560"/>
            <a:ext cx="8953200" cy="517212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3" descr=""/>
          <p:cNvPicPr/>
          <p:nvPr/>
        </p:nvPicPr>
        <p:blipFill>
          <a:blip r:embed="rId2"/>
          <a:stretch/>
        </p:blipFill>
        <p:spPr>
          <a:xfrm>
            <a:off x="2978280" y="1865160"/>
            <a:ext cx="503280" cy="29376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3" descr=""/>
          <p:cNvPicPr/>
          <p:nvPr/>
        </p:nvPicPr>
        <p:blipFill>
          <a:blip r:embed="rId3"/>
          <a:stretch/>
        </p:blipFill>
        <p:spPr>
          <a:xfrm>
            <a:off x="7740720" y="1876320"/>
            <a:ext cx="863640" cy="29376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3" descr=""/>
          <p:cNvPicPr/>
          <p:nvPr/>
        </p:nvPicPr>
        <p:blipFill>
          <a:blip r:embed="rId4"/>
          <a:stretch/>
        </p:blipFill>
        <p:spPr>
          <a:xfrm>
            <a:off x="2916360" y="2246400"/>
            <a:ext cx="863640" cy="29376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3" descr=""/>
          <p:cNvPicPr/>
          <p:nvPr/>
        </p:nvPicPr>
        <p:blipFill>
          <a:blip r:embed="rId5"/>
          <a:stretch/>
        </p:blipFill>
        <p:spPr>
          <a:xfrm>
            <a:off x="7956720" y="2246400"/>
            <a:ext cx="863280" cy="29376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3" descr=""/>
          <p:cNvPicPr/>
          <p:nvPr/>
        </p:nvPicPr>
        <p:blipFill>
          <a:blip r:embed="rId6"/>
          <a:stretch/>
        </p:blipFill>
        <p:spPr>
          <a:xfrm>
            <a:off x="3348000" y="2606760"/>
            <a:ext cx="863640" cy="29376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3" descr=""/>
          <p:cNvPicPr/>
          <p:nvPr/>
        </p:nvPicPr>
        <p:blipFill>
          <a:blip r:embed="rId7"/>
          <a:stretch/>
        </p:blipFill>
        <p:spPr>
          <a:xfrm>
            <a:off x="7472520" y="2610000"/>
            <a:ext cx="865080" cy="29520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3" descr=""/>
          <p:cNvPicPr/>
          <p:nvPr/>
        </p:nvPicPr>
        <p:blipFill>
          <a:blip r:embed="rId8"/>
          <a:stretch/>
        </p:blipFill>
        <p:spPr>
          <a:xfrm>
            <a:off x="3348000" y="2997360"/>
            <a:ext cx="1511280" cy="29340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3" descr=""/>
          <p:cNvPicPr/>
          <p:nvPr/>
        </p:nvPicPr>
        <p:blipFill>
          <a:blip r:embed="rId9"/>
          <a:stretch/>
        </p:blipFill>
        <p:spPr>
          <a:xfrm>
            <a:off x="7740720" y="2976480"/>
            <a:ext cx="863640" cy="29376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3" descr=""/>
          <p:cNvPicPr/>
          <p:nvPr/>
        </p:nvPicPr>
        <p:blipFill>
          <a:blip r:embed="rId10"/>
          <a:stretch/>
        </p:blipFill>
        <p:spPr>
          <a:xfrm>
            <a:off x="2916360" y="3346560"/>
            <a:ext cx="863640" cy="29340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3" descr=""/>
          <p:cNvPicPr/>
          <p:nvPr/>
        </p:nvPicPr>
        <p:blipFill>
          <a:blip r:embed="rId11"/>
          <a:stretch/>
        </p:blipFill>
        <p:spPr>
          <a:xfrm>
            <a:off x="8028000" y="3346560"/>
            <a:ext cx="865080" cy="29340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3" descr=""/>
          <p:cNvPicPr/>
          <p:nvPr/>
        </p:nvPicPr>
        <p:blipFill>
          <a:blip r:embed="rId12"/>
          <a:stretch/>
        </p:blipFill>
        <p:spPr>
          <a:xfrm>
            <a:off x="1763640" y="4448160"/>
            <a:ext cx="1368360" cy="29376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3" descr=""/>
          <p:cNvPicPr/>
          <p:nvPr/>
        </p:nvPicPr>
        <p:blipFill>
          <a:blip r:embed="rId13"/>
          <a:stretch/>
        </p:blipFill>
        <p:spPr>
          <a:xfrm>
            <a:off x="6372360" y="4448160"/>
            <a:ext cx="1368360" cy="29376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3" descr=""/>
          <p:cNvPicPr/>
          <p:nvPr/>
        </p:nvPicPr>
        <p:blipFill>
          <a:blip r:embed="rId14"/>
          <a:stretch/>
        </p:blipFill>
        <p:spPr>
          <a:xfrm>
            <a:off x="1906560" y="4821120"/>
            <a:ext cx="1366920" cy="29556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3" descr=""/>
          <p:cNvPicPr/>
          <p:nvPr/>
        </p:nvPicPr>
        <p:blipFill>
          <a:blip r:embed="rId15"/>
          <a:stretch/>
        </p:blipFill>
        <p:spPr>
          <a:xfrm>
            <a:off x="6156360" y="4827600"/>
            <a:ext cx="2016000" cy="29520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3" descr=""/>
          <p:cNvPicPr/>
          <p:nvPr/>
        </p:nvPicPr>
        <p:blipFill>
          <a:blip r:embed="rId16"/>
          <a:stretch/>
        </p:blipFill>
        <p:spPr>
          <a:xfrm>
            <a:off x="2484360" y="5199120"/>
            <a:ext cx="1366920" cy="29376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3" descr=""/>
          <p:cNvPicPr/>
          <p:nvPr/>
        </p:nvPicPr>
        <p:blipFill>
          <a:blip r:embed="rId17"/>
          <a:stretch/>
        </p:blipFill>
        <p:spPr>
          <a:xfrm>
            <a:off x="6227640" y="5187960"/>
            <a:ext cx="1368720" cy="29376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3" descr=""/>
          <p:cNvPicPr/>
          <p:nvPr/>
        </p:nvPicPr>
        <p:blipFill>
          <a:blip r:embed="rId18"/>
          <a:stretch/>
        </p:blipFill>
        <p:spPr>
          <a:xfrm>
            <a:off x="1928880" y="5553000"/>
            <a:ext cx="2571840" cy="29376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3" descr=""/>
          <p:cNvPicPr/>
          <p:nvPr/>
        </p:nvPicPr>
        <p:blipFill>
          <a:blip r:embed="rId19"/>
          <a:stretch/>
        </p:blipFill>
        <p:spPr>
          <a:xfrm>
            <a:off x="6227640" y="5557680"/>
            <a:ext cx="1368720" cy="29556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3" descr=""/>
          <p:cNvPicPr/>
          <p:nvPr/>
        </p:nvPicPr>
        <p:blipFill>
          <a:blip r:embed="rId20"/>
          <a:stretch/>
        </p:blipFill>
        <p:spPr>
          <a:xfrm>
            <a:off x="1876320" y="5923080"/>
            <a:ext cx="2571840" cy="29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24:03Z</dcterms:modified>
  <cp:revision>1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